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dt" idx="2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4C246-DAF8-4484-9F93-4F2CFC1A555B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D44D3-AB12-47DF-A5BC-0A2DA5C24C8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0" name="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C7A81-5C93-4C67-AC8F-8211C687914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1789E-1C53-4ABE-9D96-F011A22C371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71243-172B-4CB5-AE20-4E0881164D6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A03CC-BCC2-44FF-8789-671EBA99F188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CE06D-7B2C-445A-82EE-5019844B994F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BAC23-CDD2-4DFF-824B-383CE52A9699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AB9DF-472C-4596-8C51-430D144372FA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3085C-7832-4A4C-92A2-52FDF5711683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AC48E-DC54-4F49-B84F-C8AEC28B3920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2A426-997A-435B-A828-BA7AEE3B1AC3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AC447-D9FA-4AC3-8606-16176D8BB4B1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DEBB6-9DDB-4F7F-8F96-FBE766FAAF20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284B3-25AF-4556-9BFC-24F829064CE2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DDF76-B04B-4C69-A027-32EE01E6924F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8C407-A199-41B6-8DEC-36D3B8B12780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FFDA5-BFDE-44F8-A3C0-5D5BC9DDB8E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7A64-E997-4CFC-868B-F63E657571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EC9C-807F-4634-887A-7BF82404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6B7F-E3C7-4BB9-9BFB-EBD8B392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5B3A1-861A-48BC-B535-A6739A6B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1E670-140F-49B4-BBF0-B25C90FF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E1032-891F-4AF9-BA33-148F991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86B0-5E38-4246-B05F-BC7FFC8C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CEE2-8D86-4CBE-918C-698BBEF4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78F20-3942-4260-AB8A-7836ADB5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54BB9-01C4-4E79-95EB-50E1938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BAE0-598A-4DB9-B0FA-8F2AA59E6A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4E961-C081-4E53-970A-E555B284DF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C420-10D0-40E9-B63C-7954686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3FD8E-7769-4BDC-B899-3A0737E4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35742-E209-4FED-9032-3617AB45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4D5FB-94BB-418A-8036-8E716B2E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F0671-BA08-4F99-AA31-9C082810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A7BC8-8784-4D72-AC4C-E36FC951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7CA85-50DE-4DB2-B9B2-4490DEBE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DAF3A-3CBD-429C-885C-DCDFB843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797D3-78F7-4872-8D1D-F118D6C8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EAF73-866B-4600-B0E8-38571E42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27CF0-FCC9-4703-9CC6-E8ECC774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CE61-3299-4C22-B1B5-5259CCF744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49CB3-A5C9-4A6A-BFB5-F19836BC74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E99E95-E3A0-4B5B-8F41-17058E240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0D520C-302B-49AA-A9D2-A670FD05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E0E3C-EEBB-4E89-B2F1-0B0F6CA7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39009B-0B81-421D-B039-C2F1D4F4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49ABCC-69DA-470E-ACD8-C705C420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4AB8D3-1CFE-476C-BC64-A2494E10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7F0790-C454-4AB5-BD74-91861CA9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046FA-909A-4052-904C-AD29F9C1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CA4A49-6C2F-4A7D-AD4A-267F950A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4972D-3A99-403C-975D-988091F9E2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4825E5-BFFA-4D8D-86F7-914219B6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CA2320-0F1A-4776-BFD3-04E2C81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17B5F3-DBAB-4B3D-AAD9-3C5A01AC4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A1E53-B1CA-4019-96B3-9FD55FCBD0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15AF7-EE03-431A-AEC0-A19FBB7A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D076-E8B2-4C56-B0D5-B4CD83EE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06562-F0EE-4B95-9E47-01315062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E2B13-DD8E-4B67-8BF6-5FA8E6E6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7E93-CAF1-49FF-BE39-ED3543FF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6983D-FA60-45C9-8113-6325EAF3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42A16-F8EA-43AF-9AEA-56666DB0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D6C5C-B666-4B1A-B120-56784B67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F42B9-6F9F-4A00-B72E-C3E6BEA9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3E45E-FBE4-43AA-A273-3EC277AA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EBF33-A071-4B4D-95C2-F244C00E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6EA5B-47B5-4EAE-8239-8762B3744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D26DC-83C3-499C-A2B8-1085B1BD87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2A7C4-7417-4ACB-8088-0F95D8FFD73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37084-C851-4C95-AD83-8FBAFA1BE36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97619-CEAE-4B4D-9CD7-72341750306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FF0AA-B3FC-4AB0-893E-580B1C4965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B99C4-530D-4B9A-9FF3-25771B28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BA593-3CEE-4494-B394-D4872A9E33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BF4CC-E8E9-44F9-96B2-F5E8AEAC73B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C3C37-24AF-4EDE-A2C5-91C2D88631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5BA18-AC01-426C-AC18-55402684B13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09C58-4F32-4BD5-94B6-80E3BCE972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28E95-8792-4ACD-835E-DDB9960DC1F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FB30C-5A9B-4816-9F47-EE78CC9250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C9F60-CA3E-4A93-971D-A7EC902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2516D-8715-4730-900B-F9683747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85B14-6CBD-4B41-AF16-E480492C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C7E06-B906-4F71-ACB5-0F7C556B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75F5-8B52-47DE-8A32-90C09FB0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991F7-27B6-4AE8-BA71-BCD8C478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6CB05-E810-4362-AD23-4DA40BCE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F9016-CA1B-4B32-B445-08ACB87F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DD3BE-7443-4AEF-91C8-B663B46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69FBC-9098-484C-AC9C-D702FE2F0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BD10-0861-4558-A86E-830004D13E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5DB3-9BAC-42F5-97F1-ECE4F497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3966-8FA3-4616-A56D-41A73621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0DC8-DB17-4FD6-B85F-569A7F94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1B7A-F2B3-4612-9D0F-0052EA53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A07C-F11E-4139-84CA-F5DE2707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9FEF-2CBA-4DCF-ADBC-9ECF115B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589F-443C-48DD-867D-E094E5F8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7FC3-21B0-40A9-B6CC-1BC6FAC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9E20-0BE0-4D91-93B6-2BE83FE5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F30F-B125-423A-99AF-AA11489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498D-08E1-44ED-996C-4927EE72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5138-ABED-461D-99B1-64CDA6D92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856F0-E2C0-4EB3-A544-29FB7F5599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832F3-D190-44ED-AE46-9BDFFA5E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BC674-2E84-4D94-84B2-9F69581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BF94-FFA8-47EE-82CA-CB24D65F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31646-6CAE-4A93-9B0A-89E89D3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3B212-44C9-4267-AC4C-D5D0069A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4BADD-7233-4739-8249-434011B5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3670A-F0A7-4E8D-897C-629B52D5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ABA47-E755-4006-AF80-13DA411B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B5553-A87A-4ADB-9C7F-E5540EFF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9D8AF-5705-4894-91F2-E4996F4B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8B346-74A8-4722-ADF8-F3BCC52E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D274E-B48D-4470-A132-CBAAFE8DA0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9EC49-0B98-44A3-9F21-6872D58983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16B0-954F-4903-B439-954D5594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0C13A-7E83-49ED-BD07-EDE4CCDE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1237F-8854-4347-BCC3-F3A51973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717E7-AECE-4F09-9131-1F64FCE3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4723C-14DA-4B15-B9AC-C6367478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D589F5-C76F-499A-811A-40E4D717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F1B96-DCF1-4BF0-A8D7-D47B1E11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003A87-9332-4E1F-BF9B-C9869598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A1088-EA76-498F-9F5E-D038EA9E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C35F4-255A-47D9-BE18-270173A7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ADC9E-964C-4B84-AEA7-84D412B2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5026-5523-46DC-81F8-9A91A928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FD6CD-D619-4BA1-ACD6-A7715E8BC0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74AC-1708-4803-804B-21F67C70A0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0ED8A-7E6E-41D5-9B4A-13D11A0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551E-7159-4FB8-9F8C-60990F68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2AEE1-9252-42E9-A774-AF97396E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754FB-1DA1-4229-B411-D371C2BC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D8B7-4151-4AD8-A93A-4BA81EEE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12AE2-1B45-4FF0-9273-33F219DC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BEC8B-24D5-4A7F-BD60-3E7E7315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6C61-BB74-466C-8706-7B5FF36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F124-0A53-43E2-A8F7-66657B70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590E-6C33-4A34-97C3-67D14F1E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7B320-81D7-44EC-AED9-3838343C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EBB8-9706-4BE0-A234-93E16404E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67652-2999-4112-A01E-2A5023BC67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2C92B-662E-4534-91D7-F2C570E3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49D87-F405-4A52-A204-C8BD1D59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1D2BE-830A-4A97-A54E-6A9514C5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48A8B-1713-4693-AB47-EBE2B87A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F28D1-C33C-4EC7-8C1D-E14A23B2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73053-441D-42BA-BC9E-60D2C8F1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D0F4-D30F-426E-8350-5C1ABFAE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16457-4681-40EE-B1E3-8E8AFD17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0129D-E419-454C-AFA2-C7364BE8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28E0E-1FFD-4C62-B0FD-872F6D5C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61941-60F2-40A3-9FD3-FB4077F3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8F892-350E-49ED-B3E9-69DF1D2B27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6A68ED-07E7-47DB-B3AA-172BFAD864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65DCA-2C34-40EB-8303-07312067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321476-25A0-442E-B2EB-5E407DE4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48207D-1303-45E8-9ABF-B68A82E6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EF4399-27BC-4BBA-89A4-D77EE820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2C55-4D28-48AD-B760-950FACAA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B81B00-E667-4FEC-9AFC-CA4413A5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781B7-490C-49E8-934B-7FCD1CD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F7A4D1-6C68-49C5-AA1B-1E17512E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99568B-C2E5-4984-8F4B-A4353796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D0B48-A605-49FE-A817-5654C824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16C742-045D-4D59-A679-A45C1BB9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5C5A20-4020-43A6-95DA-C546CD9610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1F838-E6E5-40AD-9699-8D1124DD64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29AA-A01C-4E2F-9A23-6067127C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A9B91-369E-4174-9BAB-2496D37F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4.03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5BC42-8E52-4ECA-98CA-95FC92FB018C}" type="slidenum"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2440" y="4026960"/>
            <a:ext cx="54813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1360" cy="83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92F61-AF92-44EF-B096-D79AD30CB95A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C328D-EEB1-42CE-9F18-5AADEDE09424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05272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488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DE0DD-ABC8-4E41-B010-1E44F51A299A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49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25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EAC9E-4309-4587-BF8E-836724D99BB6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240" y="3885840"/>
            <a:ext cx="63961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BC1CF-56A2-4FF8-8B48-AF739D0A89CB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1E05E-5560-4D19-9C1F-C25B27BFCBEC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1800" y="4406400"/>
            <a:ext cx="77677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1800" y="-1211760"/>
            <a:ext cx="77677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7FAB6-3602-4863-B5DD-ED7768185C8E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05B43-71CF-4E5F-9E46-265DE5D7303F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-10242720"/>
            <a:ext cx="4035600" cy="12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37F69-A182-482E-974A-1A417A653BCA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B9F5C-CE8F-448D-AD74-19802A50D884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C26A9-16D8-4692-B540-4F8C20342BF7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-1150920"/>
            <a:ext cx="30034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434960"/>
            <a:ext cx="3003480" cy="319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5025A-7B2A-4AF3-B7CB-590366011A0C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20720" y="900000"/>
            <a:ext cx="7764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Html annotations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dfa an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f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39920" y="49068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828720" y="830160"/>
            <a:ext cx="7672320" cy="75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lgse html tek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tootaja_nimi"       href="http://www.mkm.ee/index.php?id=7187&amp;amp;tootaja=1000045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Taivo Kivistik&lt;/a&gt;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 class="tootaja_inf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asekantsler (õigusa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br&gt;Tel:  6256346 | E-pos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kontakt_mail" href="javascript:void(0)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onclick="sendmail('taivo.kivistik', 'mkm.ee')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taivo.kivist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img src="majandus_juhtkond_files/e_post.gif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class="e_post_gif" border="0"&gt;mkm.ee&lt;/a&gt; &lt;br&gt;&lt;/div&gt;&lt;b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828720" y="830160"/>
            <a:ext cx="7672320" cy="75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semel kasutatakse RDFa järgi annoteeritud htm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about="#Taivo_Kivistik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tootaja_nimi"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rel="er:koduleht"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 href="http://www.mkm.ee/index.php?id=7187&amp;amp;tootaja=1000045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nimi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Taivo Kivistik&lt;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/spa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a&gt;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 class="tootaja_inf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amet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asekantsler (õigusala)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br&gt;Tel: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telefon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6256346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| E-pos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kontakt_mail" href="javascript:void(0)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onclick="sendmail('taivo.kivistik', 'mkm.ee')"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"er:email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content="taivo.kivistik@mkm.ee"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taivo.kivist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img src="majandus_juhtkond_files/e_post.gif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class="e_post_gif" border="0"&gt;mkm.ee&lt;/a&gt; &lt;br&gt;&lt;/div&gt;&lt;b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828720" y="830160"/>
            <a:ext cx="7672320" cy="67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RDFa konkreetsema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Üldiselt peaks piisam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ei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st lihtsama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 RDFa võimalus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t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bjekti id määramiseks: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ab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#kohalik_i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lingi omaduse nime jaoks: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r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er:omad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üldiselt omaduse nime jaoks: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prop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er:omad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kui vaja (enamasti ei), tüüp: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xsd:tyybinim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maduse väärtus:                        tüüpiliselt htmls ol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maduse väärtus alternatiivselt: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cont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väärt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acebook &amp; RDFa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Open Graph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s://developers.facebook.com/docs/opengraphprotocol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map" property="og:titl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http://www.sightsmap.com" property="og:url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map" property="og:site_nam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website" property="og:typ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eeing popularity heatmaps for the whole world, based on Panoramio photos, Wikipedia and FourSquare." property="og:description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http://www.sightsmap.com/wpng/siteimage_small_150.jpg" property="og:imag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tanel.tammet" property="fb:admins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330325837036787" property="fb:app_id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Google &amp; RDFa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ich snip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http://support.google.com/webmasters/bin/topic.py?hl=en&amp;topic=1088472&amp;parent=21997&amp;ctx=top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Use eith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DF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cro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Micro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body itemtype="http://schema.org/WebPage" itemscope="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Or a longer examp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itemscope itemtype="http://data-vocabulary.org/Person"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itemprop="name"&gt;Bob Smith&lt;/span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itemprop="nickname"&gt;Smithy&lt;/span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 p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itemprop="url"&gt;www.example.com&lt;/a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itemprop="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itemprop="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ompare RDFa &amp; microda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RDF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xmlns:v="http://rdf.data-vocabulary.org/#" typeof="v:Person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property="v:name"&gt;Bob Smith&lt;/span&gt;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property="v:nickname"&gt;Smithy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p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rel="v:url"&gt;www.example.com&lt;/a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property="v: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property="v: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dat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itemscope itemtype="http://data-vocabulary.org/Person"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itemprop="name"&gt;Bob Smith&lt;/span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itemprop="nickname"&gt;Smithy&lt;/span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 p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itemprop="url"&gt;www.example.com&lt;/a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itemprop="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itemprop="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Google example: data encoded in 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class=„...“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ttributes, here concretely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 vcard format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div class="vcard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img class="photo" src="www.example.com/bobsmith.jpg" 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trong class="fn"&gt;Bob Smith&lt;/strong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title"&gt;Senior editor&lt;/span&gt; at &lt;span class="org"&gt;ACME Reviews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adr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street-address"&gt;200 Main St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locality"&gt;Desertville&lt;/span&gt;, &lt;span class="region"&gt;AZ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postal-code"&gt;12345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/div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reated by: Google, Microsoft, and Yaho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oal: create a shared </a:t>
            </a: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arkup vocabul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ed by major search eng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lso: http://www.sitemaps.org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mpare to: wordnet (a very different anima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dditionall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googlewebmastercentral.blogspot.com/2012/12/introducing-data-highlighter-for-event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googlewebmastercentral.blogspot.com/2012/07/introducing-structured-data-dashboard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ectur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Html annot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RDF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Micro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Facebook &amp;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D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DFs and lo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“ html: two mea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First meaning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 semantic element clearly describes its meaning to both the browse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nd the develop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Exampl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non-seman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elements: &lt;div&gt; and &lt;span&gt; - Tells nothing about its cont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Exampl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seman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elements: &lt;form&gt;, &lt;table&gt;, and &lt;img&gt; - Clearly defines its cont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Calibri"/>
              </a:rPr>
              <a:t>Second meaning (the subject of this lectur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Encode program-processable data (a la name, age, cost, id etc) into html by a special </a:t>
            </a:r>
            <a:r>
              <a:rPr b="0" lang="et-EE" sz="2000" spc="-1" strike="noStrike">
                <a:solidFill>
                  <a:srgbClr val="ff0000"/>
                </a:solidFill>
                <a:latin typeface="Calibri"/>
                <a:ea typeface="SimSun"/>
              </a:rPr>
              <a:t>annotation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 mech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 html </a:t>
            </a:r>
            <a:r>
              <a:rPr b="0" lang="et-EE" sz="4400" spc="-1" strike="noStrike">
                <a:solidFill>
                  <a:srgbClr val="ff0000"/>
                </a:solidFill>
                <a:latin typeface="Calibri"/>
              </a:rPr>
              <a:t>anno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Big question: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ow to publish machine-processable data (as opposed to visual-oriented html) on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wo main approach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ublish data in csv, xml, json, rdf or some such purely machine-oriented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ublish data inside human/visual-oriented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Semantic html annotations: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integrate machine-processable information into visual-design-oriented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 html „standards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ant format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ML5 </a:t>
            </a: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data attribu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RDF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W3C standard pushed by the semantic web commun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Facebook Open Graph protoc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Google Structured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dat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ant ontologies/dictionari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word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ML5 data attrib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est of all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Just add  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*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...“  attributes where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can be anything and ... can be anything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lt;div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nam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jaan“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ag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20“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fu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not much“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rdinary tex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lt;/div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n use in css selectors, javascript, external software etc exactly as you like: no real „pre-defined“ mean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ML5 data attrib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set API examp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Assuming elemen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&lt;div id="myDiv" data-name="myDiv" data-id="myId" data-my-custom-key="This is the value"&gt;&lt;/div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Get the e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element = document.getElementById("myDiv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Get the 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id = element.dataset.i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Retrieves "data-my-custom-key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customKey = element.dataset.myCustomKe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Sets the value to something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element.dataset.myCustomKey = "Some other value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Element becom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&lt;div id="myDiv" data-name="myDiv" data-id="myId" data-my-custom-key="Some other value"&gt;&lt;/div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standard: RDF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a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en.wikipedia.org/wiki/RDF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www.w3.org/TR/xhtml-rdfa-primer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istor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DFa 1.0 reached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3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ation sta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2012:   RDFa 1.1  does not require XML-specific namespace mechanis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828720" y="114480"/>
            <a:ext cx="7672320" cy="87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lgse html-tek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Jaanus Kask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6024554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&lt;a href=”http://kask.googlepages.com”&gt;kliki siia&lt;/a&gt;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semel on html-tekstiks RDFa järgi annoteerit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r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about=”#jaanus_kask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”er:nimi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Jaanus Kask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”er:telefon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6024554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&lt;a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rel=”er:koduleht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href=”http://kask.googlepages.com”&gt;kliki siia&lt;/a&gt;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/>
  <dcterms:modified xsi:type="dcterms:W3CDTF">2015-03-02T13:00:28Z</dcterms:modified>
  <cp:revision>135</cp:revision>
  <dc:subject/>
  <dc:title>RDF and schemaless databases: some notes</dc:title>
</cp:coreProperties>
</file>